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C3B-32EB-40B5-B6EE-73971097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8B9-0E7E-49B8-8FF2-7B541E48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898-4FEA-4F0C-A86A-7A02B448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F80-E978-4C0E-B98D-5A362389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F5E-2A76-4FBC-A49F-799FC56D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553-9D5F-4118-B84F-4D4E961B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1E2-03BD-47FF-927D-705FB963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8BA-7B07-4889-8A9C-2642E464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5EE-3D06-431B-BA22-CF6ECC26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A24-1294-40EC-8F0A-EF5AD74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4CC-0A31-4458-842E-53BC714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0FC-6C68-4521-9981-F755E3A0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9A73-EBB9-45CC-A6E3-FCD527191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Desktop/Clark_Christy/student_samples/salmon%20newsletter.pub" TargetMode="External"/><Relationship Id="rId3" Type="http://schemas.openxmlformats.org/officeDocument/2006/relationships/hyperlink" Target="file:///../Desktop/Clark_Christy/student_samples/salmon%20newsletter.pub" TargetMode="External"/><Relationship Id="rId4" Type="http://schemas.openxmlformats.org/officeDocument/2006/relationships/hyperlink" Target="file:///../Desktop/Clark_Christy/student_samples/salmon%20newsletter.pub" TargetMode="External"/><Relationship Id="rId5" Type="http://schemas.openxmlformats.org/officeDocument/2006/relationships/hyperlink" Target="file:///../Desktop/Clark_Christy/student_samples/salmon%20newsletter.pub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ngineergirl.org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ntique Olive"/>
              </a:rPr>
              <a:t>Swimming Up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864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Journey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ne Cl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C Works Teen Parent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3429000"/>
            <a:ext cx="44956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Desktop\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ark_Christy\student_samples\salm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ewsletter.p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7760" y="1828440"/>
            <a:ext cx="5638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arch Salmon Habitat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 an historical salmon hab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 how to use Vernier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and analyze accua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plan to improve the habi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type of media on restoration and maintenance of Salmon habi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progres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240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22856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almon Habita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 a historical salmon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how to use Vernier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nd analyz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plan to improve the ha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type of media on restoration and maintenance of Salmon habi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360" y="1828440"/>
            <a:ext cx="6553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our role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2880" y="3580920"/>
            <a:ext cx="3733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gineergir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66880" y="3200040"/>
            <a:ext cx="6019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impact our water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reverse damage that man has ca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we can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science careers effect change in our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52320" y="2361960"/>
            <a:ext cx="5334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necessary components of a good salmon habit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collect data and display it in a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figure the rate of water mov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fast should the water be moving for good habit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healthy water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mpact does industry have on habit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mprove water qu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salmon life cy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salmon fit historic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reers in science match my interes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Using Project Approaches, Ongoing Assessment, and CFQs in My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880" y="2057040"/>
            <a:ext cx="6477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labo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peers to collect data to understand the health of their water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-Curr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reading an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ee their role in the world  can make it a better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1800" y="2971800"/>
            <a:ext cx="54864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ssessment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for final project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nier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33920" y="2895480"/>
            <a:ext cx="4952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bidity 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2:21Z</dcterms:created>
  <dc:creator>Christine.Clark</dc:creator>
  <dc:description/>
  <dc:language>en-US</dc:language>
  <cp:lastModifiedBy>Christine.Clark</cp:lastModifiedBy>
  <dcterms:modified xsi:type="dcterms:W3CDTF">2010-08-06T19:32:05Z</dcterms:modified>
  <cp:revision>12</cp:revision>
  <dc:subject/>
  <dc:title>Swimming Upstream</dc:title>
</cp:coreProperties>
</file>